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D270A1-D254-4982-A7DE-2CE4EFDE64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87F5F94-03D9-476F-963B-CA9AB8529D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556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529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Gulim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60640" y="9445680"/>
            <a:ext cx="2953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E01ECB-4E28-40AD-99DF-877E0B05CF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5DB-6943-494C-AA19-B5870ACE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677-1B43-4FF8-848C-2DA7D01B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ADF-3C89-4B64-9A94-7E70DC13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5DD-E39B-4121-9AD9-242DC792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CD6-9653-4CDA-A932-118AA53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750-73BD-4C24-B9BF-5339DAE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306-B614-4DE8-B0CB-40A18C3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7D1-82BC-467D-A8CA-DFEA6B91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B5A-89E4-4AD0-B704-3AB6B844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84F-D14A-4EC0-93B1-7C12560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FA3-AFF4-47DB-B47E-B30495A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061-396A-43E5-827B-AE4E98B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D50D-D8DF-49EA-B706-50CF3806C11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99"/>
          <p:cNvSpPr/>
          <p:nvPr/>
        </p:nvSpPr>
        <p:spPr>
          <a:xfrm>
            <a:off x="181080" y="866880"/>
            <a:ext cx="8847000" cy="141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574560" y="1496880"/>
            <a:ext cx="852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САРЫБУЛАК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759200" y="744480"/>
            <a:ext cx="11430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8143920" y="1093680"/>
            <a:ext cx="357120" cy="40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 rot="21400800">
            <a:off x="3959280" y="1285560"/>
            <a:ext cx="369720" cy="20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90560" y="1352520"/>
            <a:ext cx="249120" cy="147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8359920" y="10717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214.1к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4" descr=""/>
          <p:cNvPicPr/>
          <p:nvPr/>
        </p:nvPicPr>
        <p:blipFill>
          <a:blip r:embed="rId4"/>
          <a:stretch/>
        </p:blipFill>
        <p:spPr>
          <a:xfrm>
            <a:off x="4321080" y="1327320"/>
            <a:ext cx="128520" cy="101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233"/>
          <p:cNvSpPr/>
          <p:nvPr/>
        </p:nvSpPr>
        <p:spPr>
          <a:xfrm flipV="1">
            <a:off x="1928880" y="71280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527280" y="1459080"/>
            <a:ext cx="71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БЕТКАЙНА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857240" y="657360"/>
            <a:ext cx="428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3 к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8072280" y="1442880"/>
            <a:ext cx="1000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КОРДА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1"/>
          <p:cNvSpPr/>
          <p:nvPr/>
        </p:nvSpPr>
        <p:spPr>
          <a:xfrm>
            <a:off x="503280" y="920880"/>
            <a:ext cx="8136000" cy="258480"/>
          </a:xfrm>
          <a:custGeom>
            <a:avLst/>
            <a:gdLst>
              <a:gd name="textAreaLeft" fmla="*/ 0 w 8136000"/>
              <a:gd name="textAreaRight" fmla="*/ 8136360 w 813600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5125" h="163">
                <a:moveTo>
                  <a:pt x="0" y="60"/>
                </a:moveTo>
                <a:cubicBezTo>
                  <a:pt x="124" y="86"/>
                  <a:pt x="249" y="113"/>
                  <a:pt x="408" y="105"/>
                </a:cubicBezTo>
                <a:cubicBezTo>
                  <a:pt x="567" y="97"/>
                  <a:pt x="680" y="12"/>
                  <a:pt x="952" y="14"/>
                </a:cubicBezTo>
                <a:cubicBezTo>
                  <a:pt x="1224" y="16"/>
                  <a:pt x="1762" y="93"/>
                  <a:pt x="2041" y="115"/>
                </a:cubicBezTo>
                <a:cubicBezTo>
                  <a:pt x="2320" y="137"/>
                  <a:pt x="2376" y="163"/>
                  <a:pt x="2625" y="147"/>
                </a:cubicBezTo>
                <a:cubicBezTo>
                  <a:pt x="2874" y="131"/>
                  <a:pt x="3280" y="27"/>
                  <a:pt x="3537" y="19"/>
                </a:cubicBezTo>
                <a:cubicBezTo>
                  <a:pt x="3794" y="11"/>
                  <a:pt x="3988" y="100"/>
                  <a:pt x="4169" y="99"/>
                </a:cubicBezTo>
                <a:cubicBezTo>
                  <a:pt x="4350" y="98"/>
                  <a:pt x="4467" y="28"/>
                  <a:pt x="4626" y="14"/>
                </a:cubicBezTo>
                <a:cubicBezTo>
                  <a:pt x="4785" y="0"/>
                  <a:pt x="5034" y="14"/>
                  <a:pt x="5125" y="14"/>
                </a:cubicBezTo>
              </a:path>
            </a:pathLst>
          </a:custGeom>
          <a:noFill/>
          <a:ln w="133200">
            <a:solidFill>
              <a:srgbClr val="88a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42920" y="53172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000066"/>
                </a:solidFill>
                <a:latin typeface="Calibri"/>
                <a:ea typeface="맑은 고딕"/>
              </a:rPr>
              <a:t>ТАРА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0"/>
          <p:cNvSpPr/>
          <p:nvPr/>
        </p:nvSpPr>
        <p:spPr>
          <a:xfrm>
            <a:off x="8638560" y="855720"/>
            <a:ext cx="4680" cy="216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151760" y="68904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219 км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7"/>
          <p:cNvSpPr/>
          <p:nvPr/>
        </p:nvSpPr>
        <p:spPr>
          <a:xfrm>
            <a:off x="503280" y="933480"/>
            <a:ext cx="2519280" cy="169920"/>
          </a:xfrm>
          <a:custGeom>
            <a:avLst/>
            <a:gdLst>
              <a:gd name="textAreaLeft" fmla="*/ 0 w 2519280"/>
              <a:gd name="textAreaRight" fmla="*/ 2519280 w 2519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587" h="107">
                <a:moveTo>
                  <a:pt x="0" y="54"/>
                </a:moveTo>
                <a:cubicBezTo>
                  <a:pt x="102" y="72"/>
                  <a:pt x="204" y="91"/>
                  <a:pt x="272" y="99"/>
                </a:cubicBezTo>
                <a:cubicBezTo>
                  <a:pt x="340" y="107"/>
                  <a:pt x="347" y="107"/>
                  <a:pt x="408" y="99"/>
                </a:cubicBezTo>
                <a:cubicBezTo>
                  <a:pt x="469" y="91"/>
                  <a:pt x="567" y="69"/>
                  <a:pt x="635" y="54"/>
                </a:cubicBezTo>
                <a:cubicBezTo>
                  <a:pt x="703" y="39"/>
                  <a:pt x="756" y="16"/>
                  <a:pt x="816" y="8"/>
                </a:cubicBezTo>
                <a:cubicBezTo>
                  <a:pt x="876" y="0"/>
                  <a:pt x="869" y="0"/>
                  <a:pt x="997" y="8"/>
                </a:cubicBezTo>
                <a:cubicBezTo>
                  <a:pt x="1125" y="16"/>
                  <a:pt x="1489" y="46"/>
                  <a:pt x="1587" y="54"/>
                </a:cubicBezTo>
              </a:path>
            </a:pathLst>
          </a:custGeom>
          <a:noFill/>
          <a:ln w="1396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7"/>
          <p:cNvSpPr/>
          <p:nvPr/>
        </p:nvSpPr>
        <p:spPr>
          <a:xfrm>
            <a:off x="4371840" y="1638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7966080" y="1643040"/>
            <a:ext cx="1071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95"/>
          <p:cNvGrpSpPr/>
          <p:nvPr/>
        </p:nvGrpSpPr>
        <p:grpSpPr>
          <a:xfrm>
            <a:off x="558720" y="482760"/>
            <a:ext cx="8299080" cy="302760"/>
            <a:chOff x="558720" y="482760"/>
            <a:chExt cx="8299080" cy="302760"/>
          </a:xfrm>
        </p:grpSpPr>
        <p:sp>
          <p:nvSpPr>
            <p:cNvPr id="68" name="Line 210"/>
            <p:cNvSpPr/>
            <p:nvPr/>
          </p:nvSpPr>
          <p:spPr>
            <a:xfrm flipH="1">
              <a:off x="558720" y="759600"/>
              <a:ext cx="580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12"/>
            <p:cNvSpPr/>
            <p:nvPr/>
          </p:nvSpPr>
          <p:spPr>
            <a:xfrm>
              <a:off x="8236440" y="759600"/>
              <a:ext cx="5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TextBox 10"/>
            <p:cNvGrpSpPr/>
            <p:nvPr/>
          </p:nvGrpSpPr>
          <p:grpSpPr>
            <a:xfrm>
              <a:off x="7907040" y="482760"/>
              <a:ext cx="950760" cy="302760"/>
              <a:chOff x="7907040" y="482760"/>
              <a:chExt cx="950760" cy="302760"/>
            </a:xfrm>
          </p:grpSpPr>
          <p:pic>
            <p:nvPicPr>
              <p:cNvPr id="71" name="TextBox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907040" y="482760"/>
                <a:ext cx="950760" cy="30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7963200" y="508680"/>
                <a:ext cx="84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Calibri"/>
                    <a:ea typeface="맑은 고딕"/>
                  </a:rPr>
                  <a:t>А</a:t>
                </a:r>
                <a:r>
                  <a:rPr b="1" lang="kk-KZ" sz="900" spc="-1" strike="noStrike">
                    <a:solidFill>
                      <a:srgbClr val="ffffff"/>
                    </a:solidFill>
                    <a:latin typeface="Calibri"/>
                    <a:ea typeface="맑은 고딕"/>
                  </a:rPr>
                  <a:t>ЛМА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Rectangle 376"/>
          <p:cNvSpPr/>
          <p:nvPr/>
        </p:nvSpPr>
        <p:spPr>
          <a:xfrm rot="10800000">
            <a:off x="3857400" y="1856880"/>
            <a:ext cx="5143320" cy="285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1" descr=""/>
          <p:cNvPicPr/>
          <p:nvPr/>
        </p:nvPicPr>
        <p:blipFill>
          <a:blip r:embed="rId6"/>
          <a:stretch/>
        </p:blipFill>
        <p:spPr>
          <a:xfrm>
            <a:off x="8434440" y="1924200"/>
            <a:ext cx="168120" cy="17748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43"/>
          <p:cNvGrpSpPr/>
          <p:nvPr/>
        </p:nvGrpSpPr>
        <p:grpSpPr>
          <a:xfrm>
            <a:off x="3929400" y="1928880"/>
            <a:ext cx="3571560" cy="142920"/>
            <a:chOff x="3929400" y="1928880"/>
            <a:chExt cx="3571560" cy="142920"/>
          </a:xfrm>
        </p:grpSpPr>
        <p:sp>
          <p:nvSpPr>
            <p:cNvPr id="76" name="Text Box 374"/>
            <p:cNvSpPr/>
            <p:nvPr/>
          </p:nvSpPr>
          <p:spPr>
            <a:xfrm>
              <a:off x="3929400" y="1928880"/>
              <a:ext cx="12380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rmAutofit fontScale="26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66"/>
                  </a:solidFill>
                  <a:latin typeface="Calibri"/>
                  <a:ea typeface="맑은 고딕"/>
                </a:rPr>
                <a:t>асфальтобетонный заво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74"/>
            <p:cNvSpPr/>
            <p:nvPr/>
          </p:nvSpPr>
          <p:spPr>
            <a:xfrm>
              <a:off x="5715000" y="1928880"/>
              <a:ext cx="1000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rmAutofit fontScale="40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66"/>
                  </a:solidFill>
                  <a:latin typeface="Calibri"/>
                  <a:ea typeface="맑은 고딕"/>
                </a:rPr>
                <a:t>грунтовый  карь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74"/>
            <p:cNvSpPr/>
            <p:nvPr/>
          </p:nvSpPr>
          <p:spPr>
            <a:xfrm>
              <a:off x="6786720" y="1928880"/>
              <a:ext cx="7142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rmAutofit fontScale="40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66"/>
                  </a:solidFill>
                  <a:latin typeface="Calibri"/>
                  <a:ea typeface="맑은 고딕"/>
                </a:rPr>
                <a:t>карьер ПГ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77"/>
          <p:cNvGrpSpPr/>
          <p:nvPr/>
        </p:nvGrpSpPr>
        <p:grpSpPr>
          <a:xfrm>
            <a:off x="7364520" y="1901880"/>
            <a:ext cx="261720" cy="237960"/>
            <a:chOff x="7364520" y="1901880"/>
            <a:chExt cx="261720" cy="237960"/>
          </a:xfrm>
        </p:grpSpPr>
        <p:pic>
          <p:nvPicPr>
            <p:cNvPr id="80" name="AutoShape 377" descr=""/>
            <p:cNvPicPr/>
            <p:nvPr/>
          </p:nvPicPr>
          <p:blipFill>
            <a:blip r:embed="rId7"/>
            <a:stretch/>
          </p:blipFill>
          <p:spPr>
            <a:xfrm>
              <a:off x="7364520" y="1901880"/>
              <a:ext cx="261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 rot="10800000">
              <a:off x="7449840" y="1958760"/>
              <a:ext cx="903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72"/>
          <p:cNvGrpSpPr/>
          <p:nvPr/>
        </p:nvGrpSpPr>
        <p:grpSpPr>
          <a:xfrm>
            <a:off x="3828960" y="1859040"/>
            <a:ext cx="225360" cy="280800"/>
            <a:chOff x="3828960" y="1859040"/>
            <a:chExt cx="225360" cy="280800"/>
          </a:xfrm>
        </p:grpSpPr>
        <p:pic>
          <p:nvPicPr>
            <p:cNvPr id="83" name="AutoShape 372" descr=""/>
            <p:cNvPicPr/>
            <p:nvPr/>
          </p:nvPicPr>
          <p:blipFill>
            <a:blip r:embed="rId8"/>
            <a:stretch/>
          </p:blipFill>
          <p:spPr>
            <a:xfrm>
              <a:off x="3828960" y="1859040"/>
              <a:ext cx="22536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911760" y="1976400"/>
              <a:ext cx="5868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Oval 371"/>
          <p:cNvGrpSpPr/>
          <p:nvPr/>
        </p:nvGrpSpPr>
        <p:grpSpPr>
          <a:xfrm>
            <a:off x="5589720" y="1895400"/>
            <a:ext cx="250560" cy="257400"/>
            <a:chOff x="5589720" y="1895400"/>
            <a:chExt cx="250560" cy="257400"/>
          </a:xfrm>
        </p:grpSpPr>
        <p:pic>
          <p:nvPicPr>
            <p:cNvPr id="86" name="Oval 371" descr=""/>
            <p:cNvPicPr/>
            <p:nvPr/>
          </p:nvPicPr>
          <p:blipFill>
            <a:blip r:embed="rId9"/>
            <a:stretch/>
          </p:blipFill>
          <p:spPr>
            <a:xfrm>
              <a:off x="5589720" y="1895400"/>
              <a:ext cx="25056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664240" y="194940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Oval 371"/>
          <p:cNvGrpSpPr/>
          <p:nvPr/>
        </p:nvGrpSpPr>
        <p:grpSpPr>
          <a:xfrm>
            <a:off x="6656400" y="1895400"/>
            <a:ext cx="257040" cy="257400"/>
            <a:chOff x="6656400" y="1895400"/>
            <a:chExt cx="257040" cy="257400"/>
          </a:xfrm>
        </p:grpSpPr>
        <p:pic>
          <p:nvPicPr>
            <p:cNvPr id="89" name="Oval 371" descr=""/>
            <p:cNvPicPr/>
            <p:nvPr/>
          </p:nvPicPr>
          <p:blipFill>
            <a:blip r:embed="rId10"/>
            <a:stretch/>
          </p:blipFill>
          <p:spPr>
            <a:xfrm>
              <a:off x="6656400" y="1895400"/>
              <a:ext cx="25704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734160" y="1949400"/>
              <a:ext cx="10332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оугольник 50"/>
          <p:cNvGrpSpPr/>
          <p:nvPr/>
        </p:nvGrpSpPr>
        <p:grpSpPr>
          <a:xfrm>
            <a:off x="5157720" y="1895400"/>
            <a:ext cx="255600" cy="257400"/>
            <a:chOff x="5157720" y="1895400"/>
            <a:chExt cx="255600" cy="257400"/>
          </a:xfrm>
        </p:grpSpPr>
        <p:pic>
          <p:nvPicPr>
            <p:cNvPr id="92" name="Прямоугольник 50" descr=""/>
            <p:cNvPicPr/>
            <p:nvPr/>
          </p:nvPicPr>
          <p:blipFill>
            <a:blip r:embed="rId11"/>
            <a:stretch/>
          </p:blipFill>
          <p:spPr>
            <a:xfrm>
              <a:off x="5157720" y="1895400"/>
              <a:ext cx="25560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214960" y="1928880"/>
              <a:ext cx="142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TextBox 10"/>
          <p:cNvGrpSpPr/>
          <p:nvPr/>
        </p:nvGrpSpPr>
        <p:grpSpPr>
          <a:xfrm>
            <a:off x="444600" y="469800"/>
            <a:ext cx="957240" cy="365400"/>
            <a:chOff x="444600" y="469800"/>
            <a:chExt cx="957240" cy="365400"/>
          </a:xfrm>
        </p:grpSpPr>
        <p:pic>
          <p:nvPicPr>
            <p:cNvPr id="95" name="TextBox 10" descr=""/>
            <p:cNvPicPr/>
            <p:nvPr/>
          </p:nvPicPr>
          <p:blipFill>
            <a:blip r:embed="rId12"/>
            <a:stretch/>
          </p:blipFill>
          <p:spPr>
            <a:xfrm>
              <a:off x="444600" y="469800"/>
              <a:ext cx="9572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00040" y="500040"/>
              <a:ext cx="84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900" spc="-1" strike="noStrike">
                  <a:solidFill>
                    <a:srgbClr val="ffffff"/>
                  </a:solidFill>
                  <a:latin typeface="Calibri"/>
                  <a:ea typeface="맑은 고딕"/>
                </a:rPr>
                <a:t>ТАРА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374"/>
          <p:cNvSpPr/>
          <p:nvPr/>
        </p:nvSpPr>
        <p:spPr>
          <a:xfrm>
            <a:off x="5286240" y="1928880"/>
            <a:ext cx="4287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rmAutofit fontScale="4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66"/>
                </a:solidFill>
                <a:latin typeface="Calibri"/>
                <a:ea typeface="맑은 고딕"/>
              </a:rPr>
              <a:t>ДРС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4"/>
          <p:cNvSpPr/>
          <p:nvPr/>
        </p:nvSpPr>
        <p:spPr>
          <a:xfrm>
            <a:off x="7358040" y="1928880"/>
            <a:ext cx="1143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rmAutofit fontScale="4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66"/>
                </a:solidFill>
                <a:latin typeface="Calibri"/>
                <a:ea typeface="맑은 고딕"/>
              </a:rPr>
              <a:t>      </a:t>
            </a:r>
            <a:r>
              <a:rPr b="0" lang="ru-RU" sz="800" spc="-1" strike="noStrike">
                <a:solidFill>
                  <a:srgbClr val="000066"/>
                </a:solidFill>
                <a:latin typeface="Calibri"/>
                <a:ea typeface="맑은 고딕"/>
              </a:rPr>
              <a:t>каменный карь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74"/>
          <p:cNvSpPr/>
          <p:nvPr/>
        </p:nvSpPr>
        <p:spPr>
          <a:xfrm>
            <a:off x="8429760" y="1928880"/>
            <a:ext cx="571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rmAutofit fontScale="4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66"/>
                </a:solidFill>
                <a:latin typeface="Calibri"/>
                <a:ea typeface="맑은 고딕"/>
              </a:rPr>
              <a:t>      </a:t>
            </a:r>
            <a:r>
              <a:rPr b="0" lang="ru-RU" sz="800" spc="-1" strike="noStrike">
                <a:solidFill>
                  <a:srgbClr val="000066"/>
                </a:solidFill>
                <a:latin typeface="Calibri"/>
                <a:ea typeface="맑은 고딕"/>
              </a:rPr>
              <a:t>мос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 Box 2900" descr=""/>
          <p:cNvPicPr/>
          <p:nvPr/>
        </p:nvPicPr>
        <p:blipFill>
          <a:blip r:embed="rId13"/>
          <a:stretch/>
        </p:blipFill>
        <p:spPr>
          <a:xfrm>
            <a:off x="4572000" y="2719440"/>
            <a:ext cx="4572000" cy="31572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32" descr=""/>
          <p:cNvPicPr/>
          <p:nvPr/>
        </p:nvPicPr>
        <p:blipFill>
          <a:blip r:embed="rId14"/>
          <a:stretch/>
        </p:blipFill>
        <p:spPr>
          <a:xfrm>
            <a:off x="249120" y="146160"/>
            <a:ext cx="8570880" cy="41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0"/>
          <p:cNvSpPr/>
          <p:nvPr/>
        </p:nvSpPr>
        <p:spPr>
          <a:xfrm>
            <a:off x="142920" y="10717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  <a:ea typeface="맑은 고딕"/>
              </a:rPr>
              <a:t>260.4к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1" descr=""/>
          <p:cNvPicPr/>
          <p:nvPr/>
        </p:nvPicPr>
        <p:blipFill>
          <a:blip r:embed="rId15"/>
          <a:stretch/>
        </p:blipFill>
        <p:spPr>
          <a:xfrm rot="15303000">
            <a:off x="7394400" y="938160"/>
            <a:ext cx="177840" cy="16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643280" y="3141720"/>
          <a:ext cx="4357800" cy="2573280"/>
        </p:xfrm>
        <a:graphic>
          <a:graphicData uri="http://schemas.openxmlformats.org/drawingml/2006/table">
            <a:tbl>
              <a:tblPr/>
              <a:tblGrid>
                <a:gridCol w="2665440"/>
                <a:gridCol w="792360"/>
                <a:gridCol w="900000"/>
              </a:tblGrid>
              <a:tr h="263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Наименование работ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Ед. из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ротяженность дор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окрытие из в/п  а/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окрытие из к/з  а/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окрытие из м/з  а/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Устройство ос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одстилающий с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Земляны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тыс.м</a:t>
                      </a: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Gulim"/>
                        </a:rPr>
                        <a:t>³</a:t>
                      </a: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04.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Водопропускные труб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ш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Мо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ш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Устройство 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л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10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50920" y="3141720"/>
          <a:ext cx="4248000" cy="2590920"/>
        </p:xfrm>
        <a:graphic>
          <a:graphicData uri="http://schemas.openxmlformats.org/drawingml/2006/table">
            <a:tbl>
              <a:tblPr/>
              <a:tblGrid>
                <a:gridCol w="2141280"/>
                <a:gridCol w="2106720"/>
              </a:tblGrid>
              <a:tr h="28728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Заказчик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АД Министерства по Инвестициям и Развитию  Р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Генеральный Подрядчик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ТОО «АКМ (Р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НС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SMEC ITERNATIONAL (PTY) LTD (</a:t>
                      </a: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Австралия</a:t>
                      </a: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Автор проекта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ТОО «Каздорпроект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Дата начала работ (Уведомление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10 января 2010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родолжительность Контракта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37 месяце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ервоначальная стоимость Контракта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5,107,777,777.00 тенг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Дата завершения работ с продлением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30 июня 2013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Количество продленных месяце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40.70 месяце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540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Стоимость Контракта по завершению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360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5,107,777,777.00 тенг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Период устранения дефект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ff"/>
                          </a:solidFill>
                          <a:latin typeface="Times New Roman"/>
                          <a:ea typeface="맑은 고딕"/>
                        </a:rPr>
                        <a:t>730 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33cc"/>
                      </a:solidFill>
                    </a:lnL>
                    <a:lnR w="2880">
                      <a:solidFill>
                        <a:srgbClr val="0033cc"/>
                      </a:solidFill>
                    </a:lnR>
                    <a:lnT w="2880">
                      <a:solidFill>
                        <a:srgbClr val="0033cc"/>
                      </a:solidFill>
                    </a:lnT>
                    <a:lnB w="28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Text Box 2900" descr=""/>
          <p:cNvPicPr/>
          <p:nvPr/>
        </p:nvPicPr>
        <p:blipFill>
          <a:blip r:embed="rId16"/>
          <a:stretch/>
        </p:blipFill>
        <p:spPr>
          <a:xfrm>
            <a:off x="139680" y="2651040"/>
            <a:ext cx="4524480" cy="2746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20"/>
          <p:cNvSpPr/>
          <p:nvPr/>
        </p:nvSpPr>
        <p:spPr>
          <a:xfrm>
            <a:off x="503280" y="909720"/>
            <a:ext cx="0" cy="214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85"/>
          <p:cNvSpPr/>
          <p:nvPr/>
        </p:nvSpPr>
        <p:spPr>
          <a:xfrm>
            <a:off x="1332000" y="936720"/>
            <a:ext cx="5956200" cy="237960"/>
          </a:xfrm>
          <a:custGeom>
            <a:avLst/>
            <a:gdLst/>
            <a:ahLst/>
            <a:rect l="l" t="t" r="r" b="b"/>
            <a:pathLst>
              <a:path w="5956300" h="239184">
                <a:moveTo>
                  <a:pt x="0" y="125942"/>
                </a:moveTo>
                <a:cubicBezTo>
                  <a:pt x="184679" y="80963"/>
                  <a:pt x="369358" y="35984"/>
                  <a:pt x="463550" y="17992"/>
                </a:cubicBezTo>
                <a:cubicBezTo>
                  <a:pt x="557742" y="0"/>
                  <a:pt x="532342" y="19050"/>
                  <a:pt x="565150" y="17992"/>
                </a:cubicBezTo>
                <a:cubicBezTo>
                  <a:pt x="597958" y="16934"/>
                  <a:pt x="572558" y="7409"/>
                  <a:pt x="660400" y="11642"/>
                </a:cubicBezTo>
                <a:cubicBezTo>
                  <a:pt x="748242" y="15875"/>
                  <a:pt x="1092200" y="43392"/>
                  <a:pt x="1092200" y="43392"/>
                </a:cubicBezTo>
                <a:lnTo>
                  <a:pt x="2012950" y="113242"/>
                </a:lnTo>
                <a:cubicBezTo>
                  <a:pt x="2280708" y="137584"/>
                  <a:pt x="2698750" y="189442"/>
                  <a:pt x="2698750" y="189442"/>
                </a:cubicBezTo>
                <a:cubicBezTo>
                  <a:pt x="2874433" y="209550"/>
                  <a:pt x="2963333" y="228600"/>
                  <a:pt x="3067050" y="233892"/>
                </a:cubicBezTo>
                <a:cubicBezTo>
                  <a:pt x="3170767" y="239184"/>
                  <a:pt x="3215217" y="231775"/>
                  <a:pt x="3321050" y="221192"/>
                </a:cubicBezTo>
                <a:cubicBezTo>
                  <a:pt x="3426883" y="210609"/>
                  <a:pt x="3575050" y="190500"/>
                  <a:pt x="3702050" y="170392"/>
                </a:cubicBezTo>
                <a:cubicBezTo>
                  <a:pt x="3829050" y="150284"/>
                  <a:pt x="4083050" y="100542"/>
                  <a:pt x="4083050" y="100542"/>
                </a:cubicBezTo>
                <a:cubicBezTo>
                  <a:pt x="4208992" y="78317"/>
                  <a:pt x="4335992" y="51859"/>
                  <a:pt x="4457700" y="37042"/>
                </a:cubicBezTo>
                <a:cubicBezTo>
                  <a:pt x="4579408" y="22225"/>
                  <a:pt x="4708525" y="13759"/>
                  <a:pt x="4813300" y="11642"/>
                </a:cubicBezTo>
                <a:cubicBezTo>
                  <a:pt x="4918075" y="9525"/>
                  <a:pt x="4983692" y="9525"/>
                  <a:pt x="5086350" y="24342"/>
                </a:cubicBezTo>
                <a:cubicBezTo>
                  <a:pt x="5189008" y="39159"/>
                  <a:pt x="5324475" y="79375"/>
                  <a:pt x="5429250" y="100542"/>
                </a:cubicBezTo>
                <a:cubicBezTo>
                  <a:pt x="5534025" y="121709"/>
                  <a:pt x="5627158" y="143934"/>
                  <a:pt x="5715000" y="151342"/>
                </a:cubicBezTo>
                <a:cubicBezTo>
                  <a:pt x="5802842" y="158750"/>
                  <a:pt x="5879571" y="151871"/>
                  <a:pt x="5956300" y="144992"/>
                </a:cubicBez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1" descr=""/>
          <p:cNvPicPr/>
          <p:nvPr/>
        </p:nvPicPr>
        <p:blipFill>
          <a:blip r:embed="rId17"/>
          <a:stretch/>
        </p:blipFill>
        <p:spPr>
          <a:xfrm>
            <a:off x="1790640" y="852480"/>
            <a:ext cx="2048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53:53Z</dcterms:created>
  <dc:creator>User4</dc:creator>
  <dc:description/>
  <dc:language>en-US</dc:language>
  <cp:lastModifiedBy>Admin</cp:lastModifiedBy>
  <dcterms:modified xsi:type="dcterms:W3CDTF">2015-04-20T09:47:22Z</dcterms:modified>
  <cp:revision>357</cp:revision>
  <dc:subject/>
  <dc:title>Слайд 1</dc:title>
</cp:coreProperties>
</file>